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7F8-DAC5-4986-B0FB-CF1AA651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228-96CE-494B-9164-575DB45A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3E9-873C-4681-94F2-09380C99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AEE-00DD-4982-B867-7D4298DC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365-6C9D-464C-8A47-550EF431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393-4F9B-4356-A302-1652CE9F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B9E-6D40-4FF9-A76A-E4D56913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253-FFA1-42F7-8B6B-72FA8FFE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820-E110-4295-A998-8F432F30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C28-CF0B-4494-9C7A-DE8D8584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232-2EDF-41D6-9638-72BD19D7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9E3-3DD7-4D85-9187-3946657F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1179-1C7D-442E-B86B-10A9CDCC05C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7120" y="2324160"/>
            <a:ext cx="842976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azion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70c0"/>
                </a:solidFill>
                <a:latin typeface="Calibri"/>
              </a:rPr>
              <a:t>(se appropriato è auspicabile Graphical Abstrac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ttangolo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posta n.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CODICE/</a:t>
            </a:r>
            <a:r>
              <a:rPr b="1" lang="it-IT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Acronimo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STUDIO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Calibri"/>
              </a:rPr>
              <a:t>          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motore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ttangolo 2"/>
          <p:cNvSpPr/>
          <p:nvPr/>
        </p:nvSpPr>
        <p:spPr>
          <a:xfrm>
            <a:off x="8572680" y="651996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alibri"/>
                <a:ea typeface="Arial"/>
              </a:rPr>
              <a:t>1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ttangolo 6"/>
          <p:cNvSpPr/>
          <p:nvPr/>
        </p:nvSpPr>
        <p:spPr>
          <a:xfrm>
            <a:off x="395280" y="692280"/>
            <a:ext cx="840744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itolo dello studio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per estes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Calibri"/>
              </a:rPr>
              <a:t>Codice Eudract : 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odice Univoco Ricerca </a:t>
            </a:r>
            <a:r>
              <a:rPr b="1" lang="it-IT" sz="1400" spc="-1" strike="noStrike">
                <a:solidFill>
                  <a:srgbClr val="0070c0"/>
                </a:solidFill>
                <a:latin typeface="Calibri"/>
              </a:rPr>
              <a:t>IRST</a:t>
            </a: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(codice a cura di IRST IRC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627960"/>
            <a:ext cx="129528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Calibri"/>
                <a:ea typeface="Arial"/>
              </a:rPr>
              <a:t>S03 PA26 rev.2  23.02.20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907920"/>
            <a:ext cx="82468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Obiettiv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Primari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condari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ttangolo 2"/>
          <p:cNvSpPr/>
          <p:nvPr/>
        </p:nvSpPr>
        <p:spPr>
          <a:xfrm>
            <a:off x="8572680" y="651996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alibri"/>
                <a:ea typeface="Arial"/>
              </a:rPr>
              <a:t>2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asellaDiTesto 4"/>
          <p:cNvSpPr/>
          <p:nvPr/>
        </p:nvSpPr>
        <p:spPr>
          <a:xfrm>
            <a:off x="468360" y="292428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opol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ttangolo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posta n.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CODICE/</a:t>
            </a:r>
            <a:r>
              <a:rPr b="1" lang="it-IT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Acronimo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STUDIO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Calibri"/>
              </a:rPr>
              <a:t>          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motore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asellaDiTesto 6"/>
          <p:cNvSpPr/>
          <p:nvPr/>
        </p:nvSpPr>
        <p:spPr>
          <a:xfrm>
            <a:off x="539640" y="443700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isegno di st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(è auspicabile l’utilizzo di una figu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5560" y="928800"/>
            <a:ext cx="85071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riteri di inclusi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(riportare i 4 criteri più significativ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riteri di esclusione principa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(riportare i 3 criteri più significativ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ttangolo 2"/>
          <p:cNvSpPr/>
          <p:nvPr/>
        </p:nvSpPr>
        <p:spPr>
          <a:xfrm>
            <a:off x="8572680" y="651996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alibri"/>
                <a:ea typeface="Arial"/>
              </a:rPr>
              <a:t>3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ttangolo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posta n.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CODICE/</a:t>
            </a:r>
            <a:r>
              <a:rPr b="1" lang="it-IT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Acronimo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STUDIO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Calibri"/>
              </a:rPr>
              <a:t>          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motore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98064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entri di AVR direttamente coinvolti dal Promotore: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ltri Centri </a:t>
            </a:r>
            <a:r>
              <a:rPr b="1" lang="it-IT" sz="1600" spc="-1" strike="noStrike">
                <a:solidFill>
                  <a:srgbClr val="0070c0"/>
                </a:solidFill>
                <a:latin typeface="Calibri"/>
              </a:rPr>
              <a:t>AVR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interessat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tudi competitivi in corso/in prevision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Numero di pazienti previsti per Centr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Eventuale attività extraroutine diagnostica/laboratoristica correlata a carico d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Grant previsto a pazient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Fornitura/rimborso farmac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Eventuali criticità: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(riportare tutte le criticità degne di not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ttangolo 2"/>
          <p:cNvSpPr/>
          <p:nvPr/>
        </p:nvSpPr>
        <p:spPr>
          <a:xfrm>
            <a:off x="8572680" y="651996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alibri"/>
                <a:ea typeface="Arial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ttangolo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posta n.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CODICE/</a:t>
            </a:r>
            <a:r>
              <a:rPr b="1" lang="it-IT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Acronimo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STUDIO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Calibri"/>
              </a:rPr>
              <a:t>          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motore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98100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OLO PER STUDI BIOLOGICI (si chiede una risposta alle domande sottostanti che potranno essere oggetto di discussione in fase CMS/BOAR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. chi fornisce il materiale (provette e i reagenti)? Fornito dal Promotore o a carico 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entro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2. se lo studio richiede l’invio dei campioni in ghiaccio, chi fornisce il ghiaccio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2. se i materiali non sono forniti sono già disponibili al centro o sono acquistabili (aggiudicati a gara) 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3. il corriere per la spedizione è a carico del promotore o del centro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4. se il corriere a carico del centro su che centro di costo e a quale corriere far riferimento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5. il materiale necessario per la spedizione viene fornito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ttangolo 2"/>
          <p:cNvSpPr/>
          <p:nvPr/>
        </p:nvSpPr>
        <p:spPr>
          <a:xfrm>
            <a:off x="8572680" y="651996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alibri"/>
                <a:ea typeface="Arial"/>
              </a:rPr>
              <a:t>5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ttangolo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posta n.                      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CODICE/</a:t>
            </a:r>
            <a:r>
              <a:rPr b="1" lang="it-IT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Acronimo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STUDIO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Calibri"/>
              </a:rPr>
              <a:t>          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motore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0:07:11Z</dcterms:created>
  <dc:creator>ausl rimini</dc:creator>
  <dc:description/>
  <dc:language>en-US</dc:language>
  <cp:lastModifiedBy>Francesca Ciotti</cp:lastModifiedBy>
  <cp:lastPrinted>2012-08-27T10:01:39Z</cp:lastPrinted>
  <dcterms:modified xsi:type="dcterms:W3CDTF">2023-08-10T15:45:41Z</dcterms:modified>
  <cp:revision>631</cp:revision>
  <dc:subject/>
  <dc:title>Proposta  LE.PR.E.                             Curotti  Titolo:”Studio di fase II prospettico e multicentrico per la valutazione dei fattori predittivi della risposta al trattamento con Lenalidomide in pazienti con Leucemia Linfatica Cronica recidiva/refrattaria”</dc:title>
</cp:coreProperties>
</file>